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AD2-0A7E-4629-8640-BF8EC33D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F65-2F2D-44D2-920E-557B32D2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701-8B4C-45CE-AB36-A146675D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F97-F225-44DE-BF36-416C212A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E51A-EA88-4779-94DC-6A269120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A1CB-589E-4257-B8B2-96428958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2B8-3C47-41B4-A31D-982AD79E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57A-0FE5-43CD-96D5-FC531E01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B859-7C14-4E63-953A-0332A2C4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971C-7B3C-40A5-91A8-64961D6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E9EA-8D14-491D-8C9F-F317C58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DF4-291F-4F3F-A5B9-4A9C3F5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EE8-A235-4DCD-A6A2-F8BCF3C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55D-8435-4E5F-BAB7-DCED55B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3877-5086-4619-B430-6EF378A1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CECB-E8CB-4507-B397-5223F587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DA30-A3F7-4698-94F0-CEB349C1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6621-D9ED-432F-8AA6-410BADDA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4DC2-312B-4DC9-8BBA-A5AB555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988E-CD63-45BC-8793-ED1CF40A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6E70-038C-4A6A-9C7E-7EA4FD63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3E0B-6219-4292-8203-23917EA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F84-2110-4622-9922-64B6CCF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79FA-60C5-4ACA-8A0A-10563FC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184A-C017-42C3-8FFC-F2548D4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ADBA-0B69-42DC-BF6F-404C1C8C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B571-377D-4588-8ADD-26639C3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8F3B-D4D7-4C72-BFA5-68B34D3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EC19-8426-44BE-A0B1-ADC2F7C4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E60A-2371-4F33-9CA1-65CBD549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0FAE-7E3D-4F8E-97F0-0EF36277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40CB-2C9A-40DC-A707-953E76D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238A-C700-4781-BDBF-F2EC2227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2FE-F7B3-40B2-ADF5-7F62755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CFCD-F619-439D-BCB6-E6D0299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4361-EF3D-4634-A4AB-5EC29C6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1C111-17C8-41A2-95BC-B183C30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52E5-7755-4163-822E-EE8865E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734F-C513-44FC-BC99-C313225F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46DF-591C-43D3-918E-453EE85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0491-03B3-41A5-BC11-909EE73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B1D8-DAD8-4543-B656-BE14BE76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6499-DC08-43BF-B3AF-D29B3AED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E9E-695D-48E9-ABC7-D490929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0C4-F2A3-4A15-8CF8-D6D0593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B64-6F73-49AE-909B-33ACCBE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549-D6E2-46C3-B1A4-4A56367F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38C-1001-4E27-B2F7-3624E6E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DD7A-CCFA-471D-8EA6-0DFC15149B49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FFD-B3AD-4EB5-8A2D-F1700821FEC4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795-19AE-4026-95AD-EF37683A4B0A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A72-2A19-47F9-866B-8EC5C9AC9737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831960"/>
            <a:ext cx="8825040" cy="39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ebebeb"/>
                </a:solidFill>
                <a:latin typeface="Century Gothic"/>
              </a:rPr>
              <a:t>Проект «Безопасность школьников в сети интернет»</a:t>
            </a:r>
            <a:endParaRPr b="0" lang="en-US" sz="6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8ad0d6"/>
                </a:solidFill>
                <a:latin typeface="Century Gothic"/>
              </a:rPr>
              <a:t>ВЫПОЛНИЛ УЧЕНИК 4-Б КЛАСС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8ad0d6"/>
                </a:solidFill>
                <a:latin typeface="Century Gothic"/>
              </a:rPr>
              <a:t>МАЗУРОВ МАР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8ad0d6"/>
                </a:solidFill>
                <a:latin typeface="Century Gothic"/>
              </a:rPr>
              <a:t>2017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>
            <a:off x="-177840" y="0"/>
            <a:ext cx="12492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6320" y="1044720"/>
            <a:ext cx="8826480" cy="19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Цель работы: исследование знаний школьниками правил безопасности в сети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3960" y="2960280"/>
            <a:ext cx="88246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8ad0d6"/>
                </a:solidFill>
                <a:latin typeface="Century Gothic"/>
              </a:rPr>
              <a:t>ЗАДАЧИ РАБОТЫ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8ad0d6"/>
                </a:solidFill>
                <a:latin typeface="Century Gothic"/>
              </a:rPr>
              <a:t>1.ИЗУЧИТЬ ЛИТЕРАТУРУ ПО ДАННОЙ ПРОБЛЕМЕ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8ad0d6"/>
                </a:solidFill>
                <a:latin typeface="Century Gothic"/>
              </a:rPr>
              <a:t>2.ОПРЕДЕЛИТЬ ОСНОВНЫЕ ОПАСНОСТИ, КОТОРЫЕ МОГУТ ПОДСТЕРЕГАТЬ В СЕТИ ИНТЕРНЕТ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8ad0d6"/>
                </a:solidFill>
                <a:latin typeface="Century Gothic"/>
              </a:rPr>
              <a:t>3.ОЗНАКОМИТЬ ШКОЛЬНИКА С ОСНОВНЫМИ ПРАВИЛАМИ ПОВЕДЕНИЯ В СЕТ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8ad0d6"/>
                </a:solidFill>
                <a:latin typeface="Century Gothic"/>
              </a:rPr>
              <a:t>4.ДАТЬ РЕКОМЕНДАЦИИ ДРУЗЬЯМ ПО ТЕХНИКЕ БЕЗОПАСНОСТИ РАБОТЫ В СЕТ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520"/>
            <a:ext cx="940428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                  </a:t>
            </a: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План работы.</a:t>
            </a:r>
            <a:br>
              <a:rPr sz="4200"/>
            </a:br>
            <a:br>
              <a:rPr sz="4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1. Найти информацию в интернете, спросить у родителей.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2. Составить анкету по правилам поведения в интернете.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3. Провести опрос одноклассников.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4. Обработать результаты.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5. Презентация.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6. Выводы.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452520"/>
            <a:ext cx="940428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ebeb"/>
                </a:solidFill>
                <a:latin typeface="Century Gothic"/>
              </a:rPr>
              <a:t>Интернет- это безграничный мир информации. Здесь можно найти много интересного и интересного для учебы. В интернете можно общаться со знакомыми и заводить новых друзей.</a:t>
            </a: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Century Gothic"/>
              </a:rPr>
              <a:t>Но кроме хорошего, в виртуальном мире есть и плохое, неправильное поведение в интернете может принести вред не только детям, но также родным и близким.</a:t>
            </a: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Century Gothic"/>
              </a:rPr>
              <a:t>Чтобы обезопасить себя в интернете, достаточно соблюдать некоторые правила!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Правила поведения в сети интернет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1960" y="3895200"/>
            <a:ext cx="294012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ad0d6"/>
                </a:solidFill>
                <a:latin typeface="Century Gothic"/>
              </a:rPr>
              <a:t>1.Будьте осторожны с незнакомыми сайта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Рисунок 11" descr=""/>
          <p:cNvPicPr/>
          <p:nvPr/>
        </p:nvPicPr>
        <p:blipFill>
          <a:blip r:embed="rId1"/>
          <a:stretch/>
        </p:blipFill>
        <p:spPr>
          <a:xfrm>
            <a:off x="590400" y="2200320"/>
            <a:ext cx="3060720" cy="1646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1960" y="4827240"/>
            <a:ext cx="294012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2. Если в сети необходимо пройти регистрацию, постарайтесь не указывать никакой личной информац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89440" y="3895200"/>
            <a:ext cx="29304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ad0d6"/>
                </a:solidFill>
                <a:latin typeface="Century Gothic"/>
              </a:rPr>
              <a:t>3.Не сообщайте другим людям свой парол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Рисунок 12" descr=""/>
          <p:cNvPicPr/>
          <p:nvPr/>
        </p:nvPicPr>
        <p:blipFill>
          <a:blip r:embed="rId2"/>
          <a:stretch/>
        </p:blipFill>
        <p:spPr>
          <a:xfrm>
            <a:off x="3828960" y="2200320"/>
            <a:ext cx="3052800" cy="1646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887640" y="4827240"/>
            <a:ext cx="293544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4.Не оставляйте без присмотра компьютер с важными сведениями на экран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7098840" y="4040280"/>
            <a:ext cx="2932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8ad0d6"/>
                </a:solidFill>
                <a:latin typeface="Century Gothic"/>
              </a:rPr>
              <a:t>5.Без контроля взрослых не встречайтесь с людьми, с которыми познакомились в сет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Рисунок 13" descr=""/>
          <p:cNvPicPr/>
          <p:nvPr/>
        </p:nvPicPr>
        <p:blipFill>
          <a:blip r:embed="rId3"/>
          <a:stretch/>
        </p:blipFill>
        <p:spPr>
          <a:xfrm>
            <a:off x="7066080" y="2200320"/>
            <a:ext cx="3052800" cy="1646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095960" y="4954680"/>
            <a:ext cx="2935440" cy="11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6.Не всей информации, которая размещена в интернете можно доверять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5840" y="452520"/>
            <a:ext cx="94042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ebeb"/>
                </a:solidFill>
                <a:latin typeface="Century Gothic"/>
              </a:rPr>
              <a:t>7. Обязательно ставить на компьютер Фильтр, Родительский контроль от нежелательной информации.</a:t>
            </a:r>
            <a:br>
              <a:rPr sz="1800"/>
            </a:br>
            <a:r>
              <a:rPr b="0" lang="ru-RU" sz="1800" spc="-1" strike="noStrike">
                <a:solidFill>
                  <a:srgbClr val="ebebeb"/>
                </a:solidFill>
                <a:latin typeface="Century Gothic"/>
              </a:rPr>
              <a:t>8. Поставить на компьютер антивирусную программу и своевременно ее обновлять.</a:t>
            </a:r>
            <a:br>
              <a:rPr sz="1800"/>
            </a:br>
            <a:r>
              <a:rPr b="0" lang="ru-RU" sz="1800" spc="-1" strike="noStrike">
                <a:solidFill>
                  <a:srgbClr val="ebebeb"/>
                </a:solidFill>
                <a:latin typeface="Century Gothic"/>
              </a:rPr>
              <a:t>9. Не скачивать всё подряд. Это банально опасно. Вирус в скачанных файлах может нанести ощутимые «повреждения» компьютеру, а «негативная информация» в них же - ощутимый (не заметный) вред психике.</a:t>
            </a:r>
            <a:br>
              <a:rPr sz="1800"/>
            </a:br>
            <a:r>
              <a:rPr b="0" lang="ru-RU" sz="1800" spc="-1" strike="noStrike">
                <a:solidFill>
                  <a:srgbClr val="ebebeb"/>
                </a:solidFill>
                <a:latin typeface="Century Gothic"/>
              </a:rPr>
              <a:t>10. Не оскорбляй. Современный Интернет очень агрессивен. В первую очередь потому, что большинство пользователей считает, что их поведение безнаказанно. Не уподобляйся им. Будь выше.</a:t>
            </a:r>
            <a:endParaRPr b="0" lang="en-US" sz="1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19" name="Объект 4" descr=""/>
          <p:cNvPicPr/>
          <p:nvPr/>
        </p:nvPicPr>
        <p:blipFill>
          <a:blip r:embed="rId1"/>
          <a:stretch/>
        </p:blipFill>
        <p:spPr>
          <a:xfrm>
            <a:off x="952560" y="3502080"/>
            <a:ext cx="4395600" cy="1977840"/>
          </a:xfrm>
          <a:prstGeom prst="rect">
            <a:avLst/>
          </a:prstGeom>
          <a:ln w="0">
            <a:noFill/>
          </a:ln>
        </p:spPr>
      </p:pic>
      <p:pic>
        <p:nvPicPr>
          <p:cNvPr id="220" name="Объект 5" descr=""/>
          <p:cNvPicPr/>
          <p:nvPr/>
        </p:nvPicPr>
        <p:blipFill>
          <a:blip r:embed="rId2"/>
          <a:stretch/>
        </p:blipFill>
        <p:spPr>
          <a:xfrm>
            <a:off x="5654520" y="3502080"/>
            <a:ext cx="43959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61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ebeb"/>
                </a:solidFill>
                <a:latin typeface="Century Gothic"/>
              </a:rPr>
              <a:t>Анкета по правилам безопасности в сети                    интеренет.</a:t>
            </a:r>
            <a:br>
              <a:rPr sz="28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1) Как часто ты занимаешься за компьютером?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а)каждый день, б) один раз в неделю, в)другое(напиши свой ответ).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2)Сколько времени ты проводишь за компьютером в день?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а)1ч, б)2ч, в)другое(напиши свой ответ). 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3) Подключен твой компьютер к интернету?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а)да, б) нет.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4) Стоит ли на твоем компьютере Фильтр(запрет на посещение нежелательных и опасных сайтов?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а)да, б) нет.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5) В каких целях ты используешь интернет?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а)поиск информации, б) общение с друзьями, в) игры, г)другое(напиши свой ответ).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5840" y="452520"/>
            <a:ext cx="9404280" cy="61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6) Как обезопасить свой компьютер?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а) Выключить и спрятать в шкаф, б)установить антивирусную программу.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7) Если в сети необходимо пройти регистрацию, постарайтесь…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а) не указывать никакой личной информации, б)указать имя, фамилию, адрес, номер телефона…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8) Свои пароли от аккаунтов…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а)сообщите другим людям, б) храните в общедоступном месте, в)все варианты не верны.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9) Виртуальный собеседник предлагает встретиться, как следует поступить?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а)посоветоваться с родителями и ничего не предпринимать без их согласия, б)пойти на встречу одному.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10) Знаешь ли ты чем опасны социальные сети?</a:t>
            </a:r>
            <a:br>
              <a:rPr sz="2000"/>
            </a:br>
            <a:r>
              <a:rPr b="0" lang="ru-RU" sz="2000" spc="-1" strike="noStrike">
                <a:solidFill>
                  <a:srgbClr val="ebebeb"/>
                </a:solidFill>
                <a:latin typeface="Century Gothic"/>
              </a:rPr>
              <a:t>а)личная информация может быть использована кем угодно в разных целях, б)при просмотре неопознанных ссылок компьютер может быть взломан, в)все выше верно.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5840" y="452520"/>
            <a:ext cx="9404280" cy="61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ebebeb"/>
                </a:solidFill>
                <a:uFillTx/>
                <a:latin typeface="Century Gothic"/>
              </a:rPr>
              <a:t>Выводы: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защита личной информации может приравниваться к защите реальной личности. И важно в первую очередь научиться правильно, безопасно обращаться со своими персональными данными; </a:t>
            </a:r>
            <a:br>
              <a:rPr sz="3200"/>
            </a:b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согласитесь, совсем не трудно сделать так, чтобы интернет действительно стал помощником в учёбе и в общении, если следовать правилам поведения в сети интернет.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16:32:06Z</dcterms:created>
  <dc:creator>Елена Мазурова</dc:creator>
  <dc:description/>
  <dc:language>en-US</dc:language>
  <cp:lastModifiedBy>Тамара</cp:lastModifiedBy>
  <dcterms:modified xsi:type="dcterms:W3CDTF">2018-02-27T21:34:37Z</dcterms:modified>
  <cp:revision>21</cp:revision>
  <dc:subject/>
  <dc:title>Проект «Безопасность школьников в сети интернет»</dc:title>
</cp:coreProperties>
</file>