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26D-68B0-43B0-87E0-4787ADD6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D36-5DA2-4C76-A33B-0C7A0130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3CB-8A06-4842-8DB8-82FDABC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CBF-3723-477F-8999-3E64AEFD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BE69-3BED-4811-BA77-755FBA60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55A1-56D0-40D4-98C5-73FE394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494A-6370-4CAF-A564-2977513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D76-A3CD-45A6-A649-CE03FAD5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3BEF-F3AA-466F-B723-E367AED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899-4337-4A34-9221-B42348D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604-CC97-450A-A67F-2B745AD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877-3818-4497-A461-B4EE988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D10-855D-4F6E-B53C-86DD20F1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0D9-7DD0-4DE6-9A4D-20D45C2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095A-236D-4BA1-9611-F0EF092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D50D-1092-4716-80C1-D2213005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B7D2-A0A6-4602-B032-8806671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577C4-A754-4B39-9A8F-C63C5C40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0D882-FCC9-4A06-84A9-6371B5C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8CEAA-84B6-4A1F-9F8B-29FF4BB6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CE596-7E95-4468-A84C-2B981A7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F801E-C019-433F-B0AB-20CB7E10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ADC-6791-4D88-B3D0-05FE941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1618B-CB0D-4F5A-BCF4-5FE4407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464DA-CBC7-4A53-8B42-AD51574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4CC0A-C6BC-4FDB-AAC4-C80F0CE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830C3-428D-426B-857D-0F89543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71667-5E93-446C-A966-ABDC10C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36C5C-5666-4D72-9DC2-14D2DE2A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1971D-795A-43DF-AF09-EFC26974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7EBF-77E3-46CC-ACBC-B99443E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C288-1F5E-47E4-8B36-5B28831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597E-ED63-4201-BA62-012E28F5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170-5C29-4889-A86A-4B08F019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DBA7-5275-4108-BE21-878D96B0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3491-592F-4794-8606-922CA51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B2EE-738E-4E70-B17D-4BD5DF1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B954-5241-4239-8A0D-9DC3E5B9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DF9E-7811-40FB-B6D7-865AB72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2876-1E3D-47E3-B002-EBFF86E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5F46-7AA0-4332-B39F-9DF63BF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CC4D-5A71-4EC9-9612-70DC0788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B8C4-05CB-4FF0-87BE-2651560E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8532E-C212-44F1-8497-A5BB848F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0D1-2FAD-4C64-B9E3-52D6605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F900B-84BE-46E9-8280-8B52787C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C102C-50ED-4BCB-AD94-B8777AD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5FC9F-B244-4F94-82AC-435FB2EA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BBB5A-3199-4FBB-944E-24F277A1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E4E38-A4AE-4F49-B552-0FC3275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8D148-08D8-4BA6-8417-8BAACAC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4ACF4-16A7-411E-8E06-C4617E6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67170-1078-46C2-92A9-2163A74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0CC47-047F-4539-8EC6-BFB84FA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7BF27-8B07-45E5-973B-4E061B76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D9D-1178-4E21-B022-77D8D92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9A2EF-5CB7-4261-BC9C-C768C49D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616E7-CF60-47B9-9CC0-D5D8FF6B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A96A9-805B-4EB8-A404-521FD6D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50E7F-C9BB-4224-A464-84054E2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86183-C94D-4F13-A3EA-B821BCDF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C281C-216E-4DB9-B78A-D371DBD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6CF9F-FE7D-4B00-91C3-0167AEFD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B81C4-9A9B-4EFF-A7D5-60909C9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923E0-2DD3-41D4-A6AB-604C4BC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50E6E-C13E-465A-AB95-3FE70FC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D18-FF9C-4713-8905-27DA9B2B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19B87-A1E2-41F9-B276-282E25E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779C6-6D5C-47EA-986C-53117904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BD211-1A05-447D-955B-4BF42922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0DBDB-CA43-479C-9F7D-F1A5692B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E9275-9A06-4651-BA0E-39DE657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CEC56-7F60-4E71-AC16-8D4D95D2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DA7E8-C97A-4A9C-AE84-6409B80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194F5-F281-4308-B56F-2817E456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B4CE6-8062-4522-8B0C-096EEBA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5284F-EC33-409B-B7AC-47063D3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0A8-D8D3-4D90-A299-0C78C27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34819-1FCF-49B5-871A-973E561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F13A8-4D39-4985-8BD8-7A4F675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E9C9C-DB24-4BFB-AF49-6BFB423B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AB990-8060-47D2-B2C4-48551FBC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2F6C8-576B-4E4F-A8C8-05D880CE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F8C-A9A1-4C87-BAC6-A57CDDA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B54-DA1C-4FD2-B052-28F86B8AFB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5586-0507-43D4-A72B-AD5F9812CB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FA1B-8FE0-4851-8C00-F238CE550F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9F4-361F-4A55-8E8B-CFE40A1556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1175-A1F9-4350-9C64-AA763248BD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D8A1-E699-40C0-A1FF-35163A94F1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8133-05DA-4FB3-A69E-8144C755F4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knopki-bablo.net/wp-content/uploads/2015/11/globalnyj_internet.jpg"/>
          <p:cNvPicPr/>
          <p:nvPr/>
        </p:nvPicPr>
        <p:blipFill>
          <a:blip r:embed="rId1"/>
          <a:stretch/>
        </p:blipFill>
        <p:spPr>
          <a:xfrm>
            <a:off x="1619280" y="0"/>
            <a:ext cx="5386320" cy="39862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"/>
          <p:cNvSpPr/>
          <p:nvPr/>
        </p:nvSpPr>
        <p:spPr>
          <a:xfrm>
            <a:off x="108000" y="4149720"/>
            <a:ext cx="8785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ЕКТ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«БЕЗОПАСНОСТЬ ШКОЛЬНИКА В СЕТИ ИНТЕРНЕТ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полнила: Арзямова Анастасия, 4 «Г» клас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79280" y="765000"/>
            <a:ext cx="849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: виртуальный мир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Гипотез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: чтобы интернет был безопасным, нужно соблюдать определённые правил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бъект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: 30 человек из четвёртой параллел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едмет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: знания и соблюдения правил поведения в интернет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: знания школьных правил безопасности в сети Интерне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"/>
          <p:cNvSpPr/>
          <p:nvPr/>
        </p:nvSpPr>
        <p:spPr>
          <a:xfrm>
            <a:off x="108000" y="19080"/>
            <a:ext cx="9036000" cy="62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ПРОСЫ    АНКЕТ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стретишься ли ты с незнакомым человеком из социальных сетей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жно ли находиться в Интернете целый день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жно ли выставлять в социальные сети значимые факты своей жизн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нтролируют ли твои родители  твое пребывание в социальных сетях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Есть ли на твоём компьютере защитная фильтрация «Детский режим»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0" y="115920"/>
            <a:ext cx="8820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ведённое мной исследование в виде анкетирования показало следующее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 30 опрошенных мной человек  20 ответили на 5 вопросов верно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 неправильно, а 3 засомневалис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сюда можно сделать вывод, что всё же есть дети, которые до конца не владеют  знаниями по правилам безопасности в сети Интерне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 связи с этим, я разработала памятку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1920" y="0"/>
            <a:ext cx="864252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амятка «Правила безопасного поведения в сети Интернет для детей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трого соблюдай время нахождения в сети Интерне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режде чем начать дружить с кем-то в Интернете, спросите у родителей как безопасно общатьс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икогда не рассказывайте о себе незнакомым людям. Где вы живете, в какой школе учитесь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е отправляйте фотографии людям, которых вы не знаете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е встречайтесь без родителей с людьми из Интернета вживую. В Интернете многие люди рассказывают о себе неправду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бщаясь в Интернете  будьте дружелюбны с другими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просите родителей поставить «защиту» на ваш компьютер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627280" y="3016080"/>
            <a:ext cx="3745080" cy="37306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324000" y="10526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БЕРЕГИТЕ СЕБЯ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8T09:18:14Z</dcterms:created>
  <dc:creator>Администратор</dc:creator>
  <dc:description/>
  <dc:language>en-US</dc:language>
  <cp:lastModifiedBy>Тамара</cp:lastModifiedBy>
  <dcterms:modified xsi:type="dcterms:W3CDTF">2018-02-27T21:33:30Z</dcterms:modified>
  <cp:revision>11</cp:revision>
  <dc:subject/>
  <dc:title>Презентация PowerPoint</dc:title>
</cp:coreProperties>
</file>