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</p:sldMasterIdLst>
  <p:sldIdLst>
    <p:sldId id="256" r:id="rId35"/>
    <p:sldId id="257" r:id="rId36"/>
    <p:sldId id="258" r:id="rId37"/>
    <p:sldId id="259" r:id="rId38"/>
    <p:sldId id="260" r:id="rId39"/>
    <p:sldId id="261" r:id="rId40"/>
    <p:sldId id="262" r:id="rId41"/>
    <p:sldId id="263" r:id="rId42"/>
    <p:sldId id="264" r:id="rId43"/>
    <p:sldId id="265" r:id="rId44"/>
    <p:sldId id="266" r:id="rId45"/>
    <p:sldId id="267" r:id="rId46"/>
    <p:sldId id="268" r:id="rId47"/>
    <p:sldId id="269" r:id="rId48"/>
    <p:sldId id="270" r:id="rId49"/>
    <p:sldId id="271" r:id="rId50"/>
    <p:sldId id="272" r:id="rId51"/>
    <p:sldId id="27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" Target="slides/slide1.xml"/><Relationship Id="rId36" Type="http://schemas.openxmlformats.org/officeDocument/2006/relationships/slide" Target="slides/slide2.xml"/><Relationship Id="rId37" Type="http://schemas.openxmlformats.org/officeDocument/2006/relationships/slide" Target="slides/slide3.xml"/><Relationship Id="rId38" Type="http://schemas.openxmlformats.org/officeDocument/2006/relationships/slide" Target="slides/slide4.xml"/><Relationship Id="rId39" Type="http://schemas.openxmlformats.org/officeDocument/2006/relationships/slide" Target="slides/slide5.xml"/><Relationship Id="rId40" Type="http://schemas.openxmlformats.org/officeDocument/2006/relationships/slide" Target="slides/slide6.xml"/><Relationship Id="rId41" Type="http://schemas.openxmlformats.org/officeDocument/2006/relationships/slide" Target="slides/slide7.xml"/><Relationship Id="rId42" Type="http://schemas.openxmlformats.org/officeDocument/2006/relationships/slide" Target="slides/slide8.xml"/><Relationship Id="rId43" Type="http://schemas.openxmlformats.org/officeDocument/2006/relationships/slide" Target="slides/slide9.xml"/><Relationship Id="rId44" Type="http://schemas.openxmlformats.org/officeDocument/2006/relationships/slide" Target="slides/slide10.xml"/><Relationship Id="rId45" Type="http://schemas.openxmlformats.org/officeDocument/2006/relationships/slide" Target="slides/slide11.xml"/><Relationship Id="rId46" Type="http://schemas.openxmlformats.org/officeDocument/2006/relationships/slide" Target="slides/slide12.xml"/><Relationship Id="rId47" Type="http://schemas.openxmlformats.org/officeDocument/2006/relationships/slide" Target="slides/slide13.xml"/><Relationship Id="rId48" Type="http://schemas.openxmlformats.org/officeDocument/2006/relationships/slide" Target="slides/slide14.xml"/><Relationship Id="rId49" Type="http://schemas.openxmlformats.org/officeDocument/2006/relationships/slide" Target="slides/slide15.xml"/><Relationship Id="rId50" Type="http://schemas.openxmlformats.org/officeDocument/2006/relationships/slide" Target="slides/slide16.xml"/><Relationship Id="rId51" Type="http://schemas.openxmlformats.org/officeDocument/2006/relationships/slide" Target="slides/slide17.xml"/><Relationship Id="rId52" Type="http://schemas.openxmlformats.org/officeDocument/2006/relationships/slide" Target="slides/slide18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0CD9-80A2-4114-A257-ABC6267C3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1896-27A4-4BF3-BA14-1125AF71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19EAD-546B-4F71-95E1-C10C5789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556AC-13A3-4D3E-850F-1AD86194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39467-B452-421B-85A5-89D69222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AAFD4-7137-40CB-9364-CC141D67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1634A-DD7F-43C3-B42C-D9A420D2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B467D-88AB-45B6-8A41-5378A7BC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C4E56-3821-4C41-BB8A-81F0B3AD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950B4-817B-482A-9479-02E7F67C3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60F04-DBDE-4810-8A00-72F8F537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DAB76-2EAE-4360-822F-A3C6BAEF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1110-FF83-490E-8044-7F9B9B2B8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E6F91-5B0A-451F-AD8E-39EE3694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8827D-C078-43C1-A02A-904A5AF0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3EBC51-6CA7-446C-9E33-9EF5E6A6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8EE39-F502-4D23-8C77-604B63E4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C38BAF-DD29-490C-8AA0-A4BA6FD6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9001D-5F3C-4C4F-ACE8-DA553004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7B812-6613-47CC-A9AB-2DDA55F2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8E9B2-5F8E-431D-8D2A-19531775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AAB72-0A8A-449F-916A-D40D8738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059E4-A674-49BF-B610-8171D367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4BA3-4973-473B-A4FF-80F5879E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5FF24-FFE1-4C96-8572-11300E771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DBA40-9D4E-4041-B07F-16E02351B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62E66-29E1-482E-A6B0-C88BC007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BE82F-797E-43C4-8495-7E9194AD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0A54A-BF8C-4AAA-B5D5-98B6A826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B0BF7-7E78-46F6-8218-2EB80DF3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3CC49-798F-4132-A0AC-34AD55AA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089AB-191C-4CD0-8667-455694EF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9FFBD-D009-4032-B1D4-972731B6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48D27-FE88-46F1-BB55-21DC178B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6F2A-4AFA-4192-A934-AA0D92F61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CB3DE-DCED-4A24-83CD-DF40CBAC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13362-346C-4045-944F-CEDC165B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30384-495E-4640-9D1E-F41171A9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E3227-B407-4CE7-B746-1042FADC3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B8BE2-5CB3-4032-89D9-C8EB2D2B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56104-FA8C-4FCD-80ED-1E03C0A7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B2F163-D1C9-40D8-AC74-4EB87C87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D77B4F-F505-4EE4-9468-F87DA83F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B45789-FCC4-46F5-923B-6FC7F873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94025-9580-4F78-8C6C-68A6D18F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A208-46F9-4A8A-8C3A-F098F06B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F6C33D-0A4C-4BC4-AEF4-3A24CD6F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1FD18-5B60-4BE5-913D-192681F3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A06B99-11CE-42AE-9954-500C69D6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3BD402-B632-497C-BCFB-3318502E6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D30EF-E311-4561-9D42-18B2D785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865BBA-F2D0-4B9E-83F8-848F1FD03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5E97E8-90B1-44A9-9A62-6557BD71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0A7F50-576A-467C-8BC1-B3CC0659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84E456-38D5-493B-B658-D13B6465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DB1B1A-81D4-40EC-B97D-60E93F35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67DB-96C1-4DE4-B39A-76BA23BE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5439B6-88D2-4A7D-8B68-B388A449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F814DA-E0D2-48C4-9C95-2EB5BF24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FAB9D2-D06D-4600-9969-5735223E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2C3F14-AC77-4A62-9692-60FD3EB4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F59FBB-ADCF-4868-A456-5DCFE4C9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EBFCC0-17E6-4DEC-961C-822F51EFD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1CA498-EF41-45ED-BB86-B2E475193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60B752-929A-4663-A6FB-82B92B5B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494F63-8A30-4443-B389-D2C24A93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79428A-3819-407C-A6CB-E446FC54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C9FF-EE5D-479D-8B13-2A2FC068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8AD774-48E2-4207-8323-7667FA0F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030AA4-0B73-4113-B8E5-39EB8125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CAB3E4-E7FB-447D-8C5D-847CB50C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7E34BA-827F-42C1-A50C-FA05C5BE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8E55FB-9FD6-4ABB-B2D7-10F9FC79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202F18-CEF4-4CF0-9827-73B44FFF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DC3705-BF51-4CA0-B978-682422FB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2EBEB6-CA36-4535-8A12-5186B5B8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519F03-171A-4B49-B487-BDA3D7248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CBA0A8-FCAE-4C56-9A06-B24A47680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A1EC-A2F5-4E24-A3CD-BEB8756D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B88ED0-2F38-436A-876C-B55EBD77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F5CE45-EEE9-47B0-81EF-12AF4223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48AF7C-43ED-4A58-ACCB-8F5CEAD8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7A6771-B705-43E5-A78C-52A4C8AB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2E6680-7501-4CAC-AED4-71B316A3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0AF5BF-5578-4DC0-882F-697BDE23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C06A24-6F2B-425D-A729-197D364B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0A25DF-BBB3-4D94-9C92-B1E11CF0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2592B3-4947-47DB-B8AA-DD1F1653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E4B78C-8A10-4393-9193-633B12294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F37E-464C-41DE-A8BB-82299D91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58648B-BEEC-4BF9-A572-38DC0A1F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DA5495-21D6-41BA-BA10-83AC6A2AB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872FF6-C8ED-4088-A431-8A9032D1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AEE665-8285-4CC4-A6BC-4B2ABF64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FA2A2F-8517-4D17-82FF-CC664FAC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2E5E53-4D18-40F8-9FB2-242D0FA4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99B4FC-A8A8-4319-BC1C-7FF96564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37348D-98AE-4BDE-A49E-DB9C3684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65EBC0-4AA8-4700-94F4-BD0EA1C9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96FA5C-5194-41D4-AE78-D7BE346D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9875-38F2-42F7-A2B5-6F599952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4F199C-B80C-4034-A009-0AA5B361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86A8DB-8DC1-48FE-978D-D6122DE0B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7C3A2A-C8D7-4883-9D6E-8AF0271DC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D0D969-FB3B-423A-B675-24EFA776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37BB8B-89EF-4664-942E-437DFDD3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6B574A-2D25-4FF4-807E-4AE5720A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5D6554-9F2A-4C43-A071-3286FA96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5937E5-2A92-40E2-B6D3-360D2A74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9AC884-4B98-47E6-8F89-A7BED61A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B45E27-FE1F-4415-BCBC-35FB28B7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FDE4-1950-482D-B686-F711D6BD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46B0-C57D-4E74-BDF6-AD1D798A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23D375-3DAA-496F-84E7-DC34D9EA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1A737A-08AE-4A6C-9F17-4D276FED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50D7A6-7826-4438-BF2A-07A9AA9E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9817AE-214F-48EE-BC85-169249E4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051AC9-C0F5-4AD0-B012-C3E6909F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2437FD-9E54-4AAD-AB51-8DE55A3C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8783BC-B43E-4C2A-A012-E0F7D907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297219-3CFA-4152-93CE-EAAECE0D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CE7990-DF5E-419C-884C-4AF35BFD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3BAB97-791F-476C-8CB2-1F82D39F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CBD0-645A-46CF-9555-01F34A04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EF59E1-0B35-46A7-969E-72129677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E24044-291B-47C8-959E-AC461147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B4DA90-5D80-4192-A573-A38339B8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D6988E-7094-40D1-8650-DE1DE24B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496A2C-2886-4239-B0E0-9A665C7A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CE72B7-107F-43A0-A183-44AB26CB7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9F5220-1F0F-48DD-9BB5-0DED8C02D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B3D0F7-1921-4941-9961-0BAB564BC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B730A4-4D55-4FE3-8200-B5DA47E8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FDA9A5-C5C6-4F26-984C-CE4DAE67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A048-8699-45AC-ABA1-93D7CBAC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310C76-2272-4E62-AA75-3A119A69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4FC542-28F3-4AD1-8CE5-B6A2BD9F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B916DD-DBC1-46F9-9F9B-7D53EFA7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42DFEF-59F9-4C77-8A51-4893B527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BCF087-FB44-412F-87A2-97D1FBE5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87AD38-BCDF-4F46-86BC-A0EF325B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2AEF04-F51C-440D-8402-74CAEC38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936FE4-41A6-4DD7-8D1C-D1DC2A8B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62F437-0383-414F-9840-33F8F99C9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FFCF70-1F39-4B88-B416-0028141A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56AE-E37A-4D10-B9BE-86A3424DF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0E98A1-8894-4479-B8FE-A6ED59A6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84AC2D-1ED4-451A-BFB0-EF292F76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27A181-3759-4F8C-B146-F3717225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07DE23-E199-40FA-A75C-F0923E7C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5864BF-0535-496B-9F32-43592458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4558F0-EE97-41DF-BE1F-81676123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0E0A76-D897-408A-9C4B-4958CD16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F3EA43-A950-41F5-B024-80D95092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73763B-A1A4-45B2-A9D5-CB9E949B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E3F639-6D03-4F15-A141-6A7A5C94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1626-6EAE-4117-9AAD-B8D49F4D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A75F5A-0F52-4341-A4DF-3DDEABD20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904415-9E37-4A7A-910A-3F5C4D6A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400A0E-3659-4BE4-8991-729AB9E3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CA3965-BE5F-4265-954B-25A507A2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6E7273-961C-4CA6-9586-F6D7A671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E58DCC-F007-47D7-B687-CEAE30BA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C97ED9-0B00-4269-85C8-D79F7633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EDD873-07EC-4AD2-AC90-C0D1B9A8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0F28D0-BB45-41C6-9FF1-2531EC22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6DABE5-E96E-445E-8BA9-1D09C63C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B763B-63EC-4B35-9369-6036F675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A15F5E-EF13-4EC3-8B21-11BD4775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83934B-0E7F-4333-8C08-0B68A5631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68FC40-CDDF-473B-804A-5827F451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50604C-1EE9-4794-B5ED-91E3D7F3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D702B0-0ABB-407D-8388-C4E73C32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5049AF-5340-459E-A6AF-45BF0009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0DE5DE-3115-4C31-BB6B-4F3592FC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AFFD8C-24DC-42F8-B580-7415D7A6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4B4688-0F60-4AEC-B46B-0823D903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1510DB-7983-4350-AA36-73C1731D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38D22-5C3A-4B16-848E-55FDADD4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282661-5875-42FA-9E06-634157AB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2289CF-57F1-4874-823A-0F856F92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E1E920-D72D-47EC-A8DE-A18F5B34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84B6BA-4FA2-4D1F-AAFB-4231E28DA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5BC45E-7295-418B-A012-2578C1AD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07F603-B252-4869-8F7C-4F1159C67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3B7906-F5AD-4C47-BC1E-F52AB9CD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FD36C3-AB70-47BA-83F8-B62AAC48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770484-33AE-453F-AED7-AA417507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AC9C34-6CF3-4B0D-9391-79208F1F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A7F7F-6973-4E9D-9EE8-2C46BC1F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165500-1B89-417F-8C6E-3C54D9C9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0B4BC6-AD89-4052-9A43-15803C87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B042D6-10AB-42AD-AF57-9F5AC807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AC2694-56D1-48DC-874A-2B985DC7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1B0982-B543-4991-ABDB-48262BB2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D6CB20-C839-4460-8BB9-042220CD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7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7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3C3EC9-A09D-49C0-93C2-8091BC8D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6EA848-1322-4600-B721-A1CA206D7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5A8FB3-1769-4624-AD2C-89B57E2D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CCE4A6-3162-4950-9599-CC2385B3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2F010-124C-426C-8215-F0AF9921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8B8FF5-39ED-4009-A84F-F3E68B35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2BF4CD-D748-441F-BFFA-127780A7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072447-B420-4D04-9A58-EB2F11AA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2C3048-F367-4C32-BA65-CD57066C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5C0EE3-E8BF-483E-9C21-43913933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EE4DBA-88A3-4F32-B022-BF00EC06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30B4BB-FD1D-4580-A0B0-20E97F04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A4460B-ED10-4280-9A49-5E4C0CEBF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1A14E3-1DCC-4F73-9EA2-3892DF5BE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9C2BA6-0B96-462B-9700-A3612D14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A9A3B-9518-4D46-8359-ED11C15D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E12954-7B9A-434A-B695-AA88771B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D387EE-E338-4A10-A5F3-C06C993A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D57B25-103D-4333-99FF-C77C1737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2AD5C8-E192-411C-9D4F-73510993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74CA47-CF6D-4A75-A82C-0BB8AADE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46B8FA-FB87-4814-8AB5-BAF4C0F5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94F248-FB50-4D0C-80A3-F96BF4D6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A056202-C2A0-444A-8BB4-286C83E1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6C14C4-262D-4752-9C85-A8F43D6C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F13FE5-47B0-498D-AA40-07742D33D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45FB-D8FA-49B3-BB7A-4E457189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F0769-64BA-4056-B2A3-D64B1516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DB375C-A22C-4998-8EFF-57A9F38F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488DD4E-359B-4E3F-AD7E-6F80C683B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D84A15-5939-44FB-8A7A-360DF8BD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39A916-775D-4E98-9D5F-B4F1BA97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E40A8C-54F6-4E48-AD2B-8C6536FA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D1E6A8-E599-45D1-9E23-85F9A322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6B0AD8-BEB6-4073-AD68-BB4B1D4D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3177ABA-56F5-45AC-8AF9-686535E3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645B26C-BFAC-45B8-8522-44977F25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0318DB-3BBD-4928-8FAA-0BD78FE5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8FF0A-D617-4EFE-BA63-3F58BBFB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FFF330-07D7-4EB8-A447-E10E32F8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9F596F1-B835-4EA1-8320-431247BDC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A56ED0-1843-4F80-8C59-74329159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64B3533-DAD5-4DF8-B197-9B26F0C1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D3B782-1039-4ED8-94C0-E6F84A84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79EA4E9-7A54-4D09-BB2D-F151230C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5A63D7-355C-4F4F-A342-6B3DDFB1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D996B8F-4E97-43ED-B9FB-D5BC2D6E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6130F9-7F3F-4224-B0E2-126B035A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844EBF5-A12E-4F06-916D-9D228970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20577-FF08-4D67-9E20-BDC91AAD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15989E-A945-40DA-90E4-844AAF65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D833FC7-26EF-4BD1-B9F4-D65CF123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1EB4972-CEEB-4188-B4E9-9D2FA751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91D0323-A4E4-42B6-89A6-F96A478F9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29F3C6-847D-41F1-9321-49203497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4689E01-ABAE-4338-A311-38073232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2BD37D6-8424-4E10-BA7C-92CA59CE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7D6A44-CE5C-4F6E-AD65-59C68F55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A0C1232-E23F-4AD0-B5B8-E25CDB35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2E3033-23DD-444A-8EAB-D2FADA99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C7F44-B933-4F8F-8649-D753C57E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6F6EC4-DB05-4600-84EA-6B72316F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10A09C-FF26-42B1-B930-64CA484A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358E730-E0B6-4A6C-8A51-8CC5B9EA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AF4F4F-3F0C-4CAB-ADAB-4CE6DDF0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794E068-3F37-413F-A25B-A0C5F763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6C466B3-D86E-4DE8-B729-CFA47916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97D8AE-EC77-4D72-9258-F89C68807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10D544E-C2CA-4917-BE93-BF916677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F24ED08-E84F-4257-B2AB-1B07D106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C93F00D-8498-4FF4-8732-12C5AB85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D6FB1-3912-4AFD-9B1E-32E1F001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CF8E928-C697-4A09-9859-BE5133D1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FF2C5A5-BAF4-472B-B4A4-C88C0B0E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1BD8DD-E5EC-4693-A2D4-D24DDF56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BD7BDCB-47ED-47A6-8BC9-208A96F8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09B9634-360A-48C2-893C-DD4AA448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D9DC7D2-881E-4D0A-8E79-71438821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DFC0C0F-480B-49CB-B4D1-95F2E199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458F920-3DD0-45CE-B9BB-4DCEC588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7B91378-80BB-45BA-8EF0-B9B9ACC44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A5BC5FA-AB4C-451D-B602-691C70731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7B16E-7023-4296-9BE4-EEA41D40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2A7479-A7B8-4431-9F6F-6D59705E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5EDBD04-9BD4-467F-9493-12502E2E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402317-1D4D-42A4-B4A3-35CB19E3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52A7429-7002-45E5-9C55-90217B6E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DAE7966-9C12-4D2B-A7B5-E819CB1B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BED36F8-93B1-407E-9EF4-7BFBB56C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31EF60D-EFAE-4867-80A1-A82CCED7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1C6519-1D87-4487-B5BC-687AF8B8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C4180D1-B2F4-4C81-8F93-40E5D04F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119BE7-A962-4C63-80A7-769AA65CA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9FBBE-796B-476D-91D4-59FAEBB0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98169E0-AA63-4C85-8B43-5BE2034B4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CDA8FAD-2338-4DC3-B91D-C32E1B23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6039E23-9141-4B43-A88B-FC8CCAFE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9DDF26C-C4EC-4E29-BB0D-6CA6C4DC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79747A7-981B-4D77-B7B4-A3542183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D166543-6DED-4CAF-B868-4A899B22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893D888-1030-412D-AD42-8FEC60E3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AD280F-65A8-4635-975C-AC99F88C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CD3BD65-04C7-4B7F-9386-FE5A13A1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05E84BC-E515-413C-BA16-8EE96D99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52EB6-46DD-4728-80F4-D056A9B4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2690BD6-51B1-404F-9C2B-9150199B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00DD921-A652-48FA-B5AD-A7C3AD32F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67D3DDE-E829-40AA-ADB6-CEC0EC5EE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C2B479F-F87B-45D4-B5FB-7DFFA745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700D9D2-2706-43C6-86E6-DA7805A7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0EE6F70-A4FF-4CB3-B0DA-01367E3C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8F1EFDD-ED0A-471C-B6F9-9F827AB8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11AE202-392D-4C7E-AF4A-67929767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6E28707-6312-472B-B326-8B06AFF4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2D5961F-4452-4FB3-81FF-D58E9122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412F2-9CFA-40FC-B04B-F4A51BA7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4D9BFCC-A937-4EA4-869D-03406A99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077A28C-A559-46C8-9CB3-EBF0EFB4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FEC284B-12F0-47DA-A501-CA69ED2B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62B21D9-0A77-4598-B24C-953783FA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FC39FE0-E911-4529-8983-43B1D9587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C725B66-A61E-43D9-862C-77475A079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A23C4A2-C609-4801-AE83-52ECE478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E46F9A5-ABBF-4190-B1C1-AF281CA1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27B057A-5176-4792-A665-F981B19C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C971260-3213-430E-AE5D-36B34AC6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94768-CD94-4130-9993-D8D5F523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B30595E-375C-4B79-9A35-6D3F443A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8C3DC43-6570-4E5A-AB02-94DB7F27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A8C12DD-DCDC-486D-85B5-1AA7183E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0BC9167-C77D-44F0-8A83-D65531E2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B5FBEAA-85DC-419A-86FA-619C4005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1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EA218DD-4F70-42F5-9BCB-234CC598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1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DB207E9-5181-4F2A-B9D3-B100ADEDD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D38C-10F9-4B19-8AFE-F0806612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2091D-F202-41BA-B341-589A2AFC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7CC9D-F2AA-44FB-851B-4ABCFFBB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C7068-B671-4E07-9A19-C8769B5C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28C5C-82C3-4CD4-876C-0AE8AB13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1BED0-3163-44CE-B154-936E3A17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39D2A-CF07-4122-A0B1-A16760A8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3FB7E-13D6-4350-888D-A4FA3EBF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D9BF1-1776-4EF3-8F18-9A1D43520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5F5E4-54FA-4669-93A4-24919FB7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7479D-1278-4C92-9869-92C53496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EAB9-D11A-4B45-B005-FA8F8DA1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80D4B-9EA7-4FDE-873D-9288E823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7033B-65CD-48B0-A5D6-6E442AD7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4BCEB-3623-41A9-8425-11370A0B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E5952-2C17-4658-A194-E5E91430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E8705-4EF5-4396-B3CE-420738F0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C8727-3E80-4230-9412-864022E4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A7F44-D501-4C01-A492-4D0D1048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6C598-D849-4AE3-B4BC-11E3DEF8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5119C-47CF-4546-89E6-36F273E3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0F0D3-E33D-41E8-A9FF-E2FBFAA1A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F89D-9E32-4F99-88B6-C35562E7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A8C5A-B50B-41CA-B15A-482EFF963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3F507-B8E1-4BC5-A281-4C371E762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B0AE9-CA65-4FFD-BF43-6F9EE415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DC4BC-6BC9-4946-8AEC-1AF668A4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6E2D9-FBEE-4799-A308-232E1320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2F65B-BFAB-4F1A-BA50-AA8C5772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2DE84-24ED-421D-9316-BA275CCA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7CCED-39D8-4208-AA50-DA3FC5C5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4B2B7-A685-4BB3-9E30-190EC45E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6072E-C5FF-4585-9D58-93AFD4FE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F2F4-2C7D-436F-9A87-00B304E2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C23FF-54F7-4416-9E48-AF8FC570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FAA38-137F-44C2-9357-0D14A782A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89345-6A34-4E91-B5D1-77318BDA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68E53-E738-4DA0-83A7-3A822612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FC296-D97D-486A-8BDA-872DAB21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DD209-3020-4D83-AE9B-D8C20FA6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ACCBF-BD99-4EB5-8A50-1A9ED5E6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2FFE9-970F-4A42-8DC1-A411D210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194E3-994A-4400-A880-FE7A7E41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4D7D8-CF0A-4FB5-9A38-41BEE63F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9F63-E8A6-4A97-A3A9-BB99165B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6D187-C9F4-40D2-8076-62D46007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33902-66CF-4BDC-9F8F-14EC10A1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92CA7-B16B-41EC-9190-B4A93C37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60FDD-F4B0-4537-95B2-9919533F0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2F413-D474-4DAE-8BD8-7B6831C19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6945A-2CC0-408E-B32C-A0D8ACF47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C92C3-918B-4E1F-B441-B93F6FD1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8240D-D0A4-483D-B77F-689EA786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145CF-5464-45ED-AEA1-C3079E54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72FC1-B65D-498C-AD9F-F1B0D120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FC98-E2D2-4FAC-9B12-FC2B189D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0DA22-CE33-4B2A-BDBD-3B303D8E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F3204-87D1-4383-ACB4-05F20C2D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55F3A-1ACC-4562-820C-DAFCBCE0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E9EAF-E253-4CCA-9CD2-4C7A1555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53C97-BF3D-44B6-8412-F517B150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BD608-0C62-489B-B617-FA462369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65C38-1C7E-4834-BF25-0A467D5C2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9E40F-515E-4C05-8BC8-5C844F875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5FAE2-738C-429E-A2F0-B09C086C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F38D4C-6256-4616-845D-7EDF2663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B779-7F2A-4C72-BB94-5EF06ECC90E6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40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35A8-8F33-47C2-A985-D14E56F03F0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910A-9EA6-4495-BBFA-67992F812C1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500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1E19-B9CF-4A6B-8E47-4B38BACABA7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548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3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3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3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0FA2-DC3B-41A6-A0CD-E7ECCE19BEF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96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4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4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4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9530-9718-4356-9003-2DF0E9E464A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644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4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4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4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A182-16DF-4225-9675-641818E356A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692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4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4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BE6E-7FB1-4B1B-914C-4C2C7678601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 type="dt" idx="4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 type="ftr" idx="5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 type="sldNum" idx="5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6067-AD65-45EB-947D-DFDAFB1DF51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787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dt" idx="5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ftr" idx="5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sldNum" idx="5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4338-4121-456E-ACB7-070112CE761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835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dt" idx="5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ftr" idx="5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sldNum" idx="5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CB5E-35E1-471E-B903-CBD1C38FDFE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5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F71F-871E-49DF-BB59-CF22CC40110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883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5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5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C6FC-B2A7-46C3-BE8A-53ED3116037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0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931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dt" idx="6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 type="ftr" idx="6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 type="sldNum" idx="6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20F2-28F9-4E7C-894C-79D7CBB49F9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979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6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6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6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9414-4D14-4F60-BF73-78D917B0C4E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 type="dt" idx="6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 type="ftr" idx="6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 type="sldNum" idx="6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6C74-9FCD-4EDB-BBBA-CDB527DD92F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074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 type="dt" idx="7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 type="ftr" idx="7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 type="sldNum" idx="7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9457-B012-431F-88D3-29313416C18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1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122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dt" idx="7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 type="ftr" idx="7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 type="sldNum" idx="7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428B-5ECA-415E-A5CF-4DAEFF41FD7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9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117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 type="dt" idx="7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 type="ftr" idx="7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 type="sldNum" idx="7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818B-608E-4795-B54C-870964592DF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7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218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 type="dt" idx="7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 type="ftr" idx="8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 type="sldNum" idx="8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A255-7602-4747-A3E9-76F940E9792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 type="dt" idx="82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 type="ftr" idx="83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 type="sldNum" idx="84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AD92-8CB3-48D8-A261-8F26E4FA9863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85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86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87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8DC2-D5DC-47D0-968A-4784ADDCD8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9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03E0-96DC-4D45-A86D-C4F4B39C3D1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 type="dt" idx="88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 type="ftr" idx="89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 type="sldNum" idx="90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A783-EB59-40A2-8B1E-B12D2110E06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91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92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93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8E68-9F32-4E2B-B442-50F2FAF937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94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95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96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DE7F-29FB-44BF-BFDC-07C8B57DD911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 type="dt" idx="97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 type="ftr" idx="98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 type="sldNum" idx="99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58CF-BB9E-4FE8-A08E-94E81896A1F9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14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27EE-E2E3-4B50-80C3-3496E1FAC5F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496C-8F74-4CE7-81C2-B6265FA4B5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1837-DF70-462C-8F50-9A423A20155B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0A19-CA71-42C6-AC9C-B10C1C9DF961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6AA4-CBB8-4837-8F3C-9CC371131CB5}" type="slidenum">
              <a:rPr b="0" lang="ru-RU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38D4-43C0-4EE5-BDF3-7F7EF2499FA9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Rectangle 2" descr=""/>
          <p:cNvPicPr/>
          <p:nvPr/>
        </p:nvPicPr>
        <p:blipFill>
          <a:blip r:embed="rId1"/>
          <a:stretch/>
        </p:blipFill>
        <p:spPr>
          <a:xfrm>
            <a:off x="749160" y="225360"/>
            <a:ext cx="8109000" cy="1871640"/>
          </a:xfrm>
          <a:prstGeom prst="rect">
            <a:avLst/>
          </a:prstGeom>
          <a:ln w="0">
            <a:noFill/>
          </a:ln>
        </p:spPr>
      </p:pic>
      <p:pic>
        <p:nvPicPr>
          <p:cNvPr id="1522" name="Rectangle 3" descr=""/>
          <p:cNvPicPr/>
          <p:nvPr/>
        </p:nvPicPr>
        <p:blipFill>
          <a:blip r:embed="rId2"/>
          <a:stretch/>
        </p:blipFill>
        <p:spPr>
          <a:xfrm>
            <a:off x="6004080" y="4925880"/>
            <a:ext cx="3298680" cy="1938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ОТВЕТ 4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899640" y="1125360"/>
            <a:ext cx="75200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Franklin Gothic Book"/>
              </a:rPr>
              <a:t>Нет</a:t>
            </a:r>
            <a:endParaRPr b="1" lang="en-US" sz="9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ВОПРОС 5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1" name=""/>
          <p:cNvSpPr txBox="1"/>
          <p:nvPr/>
        </p:nvSpPr>
        <p:spPr>
          <a:xfrm>
            <a:off x="755280" y="1125360"/>
            <a:ext cx="752148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Можно ли доверять предложениям в Интернете, касающимся лёгкого заработка, розыгрыша призов и т.д.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Да </a:t>
            </a:r>
            <a:r>
              <a:rPr b="1" lang="en-US" sz="9600" spc="-1" strike="noStrike">
                <a:solidFill>
                  <a:srgbClr val="000000"/>
                </a:solidFill>
                <a:latin typeface="Franklin Gothic Book"/>
              </a:rPr>
              <a:t>/</a:t>
            </a: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 Нет</a:t>
            </a:r>
            <a:endParaRPr b="1" lang="en-US" sz="9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ОТВЕТ 5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Franklin Gothic Book"/>
              </a:rPr>
              <a:t>Нет</a:t>
            </a:r>
            <a:endParaRPr b="1" lang="en-US" sz="9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ВОПРОС 6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Franklin Gothic Book"/>
              </a:rPr>
              <a:t>Можно ли в Социальных сетях добавлять в друзья незнакомых людей либо соглашаться на их предложение дружбы</a:t>
            </a:r>
            <a:r>
              <a:rPr b="1" lang="en-US" sz="3000" spc="-1" strike="noStrike">
                <a:solidFill>
                  <a:srgbClr val="000000"/>
                </a:solidFill>
                <a:latin typeface="Franklin Gothic Book"/>
              </a:rPr>
              <a:t>?</a:t>
            </a:r>
            <a:endParaRPr b="1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900" spc="-1" strike="noStrike">
                <a:solidFill>
                  <a:srgbClr val="000000"/>
                </a:solidFill>
                <a:latin typeface="Franklin Gothic Book"/>
              </a:rPr>
              <a:t>Да </a:t>
            </a:r>
            <a:r>
              <a:rPr b="1" lang="en-US" sz="8900" spc="-1" strike="noStrike">
                <a:solidFill>
                  <a:srgbClr val="000000"/>
                </a:solidFill>
                <a:latin typeface="Franklin Gothic Book"/>
              </a:rPr>
              <a:t>/</a:t>
            </a:r>
            <a:r>
              <a:rPr b="1" lang="ru-RU" sz="8900" spc="-1" strike="noStrike">
                <a:solidFill>
                  <a:srgbClr val="000000"/>
                </a:solidFill>
                <a:latin typeface="Franklin Gothic Book"/>
              </a:rPr>
              <a:t> Нет</a:t>
            </a:r>
            <a:endParaRPr b="1" lang="en-US" sz="89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ОТВЕТ 6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Franklin Gothic Book"/>
              </a:rPr>
              <a:t>Нет</a:t>
            </a:r>
            <a:endParaRPr b="1" lang="en-US" sz="9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ВОПРОС 7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Franklin Gothic Book"/>
              </a:rPr>
              <a:t>Можно ли в Социальных сетях обмениваться частной семейной информацией (личные данные, телефоны, адреса, семейные секреты и т.д.)</a:t>
            </a:r>
            <a:r>
              <a:rPr b="1" lang="en-US" sz="3000" spc="-1" strike="noStrike">
                <a:solidFill>
                  <a:srgbClr val="000000"/>
                </a:solidFill>
                <a:latin typeface="Franklin Gothic Book"/>
              </a:rPr>
              <a:t>?</a:t>
            </a:r>
            <a:endParaRPr b="1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900" spc="-1" strike="noStrike">
                <a:solidFill>
                  <a:srgbClr val="000000"/>
                </a:solidFill>
                <a:latin typeface="Franklin Gothic Book"/>
              </a:rPr>
              <a:t>Да </a:t>
            </a:r>
            <a:r>
              <a:rPr b="1" lang="en-US" sz="8900" spc="-1" strike="noStrike">
                <a:solidFill>
                  <a:srgbClr val="000000"/>
                </a:solidFill>
                <a:latin typeface="Franklin Gothic Book"/>
              </a:rPr>
              <a:t>/</a:t>
            </a:r>
            <a:r>
              <a:rPr b="1" lang="ru-RU" sz="8900" spc="-1" strike="noStrike">
                <a:solidFill>
                  <a:srgbClr val="000000"/>
                </a:solidFill>
                <a:latin typeface="Franklin Gothic Book"/>
              </a:rPr>
              <a:t> Нет</a:t>
            </a:r>
            <a:endParaRPr b="1" lang="en-US" sz="89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ОТВЕТ 7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Franklin Gothic Book"/>
              </a:rPr>
              <a:t>Нет</a:t>
            </a:r>
            <a:endParaRPr b="1" lang="en-US" sz="9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Если ученик ответил верно на все 7 вопросов, то он отлично знает правила безопасности школьника в сети Интернет. Если допущены 1-2 ошибки, то данные вопросы ему следует дополнительно проработать с преподавателем информатики. 3 ошибки и более недопустимы – школьник не готов к самостоятельной работе в Интернете. В таком случае тему следует повторить со всем классом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Вывод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"/>
          <p:cNvSpPr txBox="1"/>
          <p:nvPr/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Если большинство учеников допускают ошибки в одних и тех же вопросах, то можно сформировать список основных опасностей, подстерегающих школьников при работе в Интернете и Социальных сетях. Преподаватель информатики может факультативно провести занятие, посвящённое углубленному разбору этих опасностей, методам и способам их избежать. Если получится, то можно пригласить на занятие специалиста в области компьютерной безопасности. Ребята смогут задать ему вопросы, а он поделиться своим опытом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Проанализировав информацию из различных источников об опасностях, подстерегающих школьников и детей при бесконтрольной работе в Интернете и Социальных сетях, я составила для своих одноклассников список вопросов по данной теме. Цель</a:t>
            </a:r>
            <a:r>
              <a:rPr b="0" lang="en-US" sz="2800" spc="-1" strike="noStrike">
                <a:solidFill>
                  <a:srgbClr val="073e87"/>
                </a:solidFill>
                <a:latin typeface="Candara"/>
              </a:rPr>
              <a:t>: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 выяснить, насколько мои ровесники знают и пользуются в повседневной жизни правилами компьютерной безопасности, и требуется ли дополнительная помощь в этом вопросе со стороны преподавателя информатики либо специалистов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75214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ВОПРОС 1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826920" y="1125360"/>
            <a:ext cx="7521840" cy="3578400"/>
          </a:xfrm>
          <a:prstGeom prst="rect">
            <a:avLst/>
          </a:prstGeom>
          <a:noFill/>
          <a:ln w="9360">
            <a:solidFill>
              <a:srgbClr val="3c3e3f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Нужно ли использовать антивирусное ПО на домашнем компьютере с выходом в Интернет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Да/Нет</a:t>
            </a:r>
            <a:endParaRPr b="1" lang="en-US" sz="9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ОТВЕТ 1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2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92d050"/>
                </a:solidFill>
                <a:latin typeface="Franklin Gothic Book"/>
              </a:rPr>
              <a:t>Да</a:t>
            </a:r>
            <a:endParaRPr b="1" lang="en-US" sz="9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ВОПРОС 2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29" name=""/>
          <p:cNvSpPr txBox="1"/>
          <p:nvPr/>
        </p:nvSpPr>
        <p:spPr>
          <a:xfrm>
            <a:off x="826920" y="11253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Можно ли использовать на домашнем компьютере нелицензионное ПО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Да </a:t>
            </a:r>
            <a:r>
              <a:rPr b="1" lang="en-US" sz="9600" spc="-1" strike="noStrike">
                <a:solidFill>
                  <a:srgbClr val="000000"/>
                </a:solidFill>
                <a:latin typeface="Franklin Gothic Book"/>
              </a:rPr>
              <a:t>/</a:t>
            </a: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 Нет</a:t>
            </a:r>
            <a:endParaRPr b="1" lang="en-US" sz="9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ОТВЕТ 2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3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Franklin Gothic Book"/>
              </a:rPr>
              <a:t>Нет</a:t>
            </a:r>
            <a:endParaRPr b="1" lang="en-US" sz="9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ВОПРОС 3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324000" y="1125360"/>
            <a:ext cx="751968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Можно ли «кликать» на ссылки и баннеры рекламного характера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Да </a:t>
            </a:r>
            <a:r>
              <a:rPr b="1" lang="en-US" sz="9600" spc="-1" strike="noStrike">
                <a:solidFill>
                  <a:srgbClr val="000000"/>
                </a:solidFill>
                <a:latin typeface="Franklin Gothic Book"/>
              </a:rPr>
              <a:t>/</a:t>
            </a: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 Нет</a:t>
            </a:r>
            <a:endParaRPr b="1" lang="en-US" sz="9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ОТВЕТ 3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35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Franklin Gothic Book"/>
              </a:rPr>
              <a:t>Нет</a:t>
            </a:r>
            <a:endParaRPr b="1" lang="en-US" sz="9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ВОПРОС 4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Безопасно ли открывать сообщения электронной почты от неизвестного отправителя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Да </a:t>
            </a:r>
            <a:r>
              <a:rPr b="1" lang="en-US" sz="9600" spc="-1" strike="noStrike">
                <a:solidFill>
                  <a:srgbClr val="000000"/>
                </a:solidFill>
                <a:latin typeface="Franklin Gothic Book"/>
              </a:rPr>
              <a:t>/</a:t>
            </a: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 Нет</a:t>
            </a:r>
            <a:endParaRPr b="1" lang="en-US" sz="9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1T19:25:23Z</dcterms:created>
  <dc:creator>Андрей</dc:creator>
  <dc:description/>
  <dc:language>en-US</dc:language>
  <cp:lastModifiedBy>Тамара</cp:lastModifiedBy>
  <dcterms:modified xsi:type="dcterms:W3CDTF">2018-02-27T21:32:12Z</dcterms:modified>
  <cp:revision>9</cp:revision>
  <dc:subject/>
  <dc:title>Безопасность школьника в сети  Интернет</dc:title>
</cp:coreProperties>
</file>