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jpeg" ContentType="image/jpe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08B45-20FC-4B40-80EF-8524B78F0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E2FC-3A64-4EB2-AE25-39A8B29A1B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7DD15-066C-4B77-A41B-95644670A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B0847-FD59-4E76-8D89-D8397B715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32B80-63F9-4E3B-AB98-A1BC6085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9B409-6DB3-4537-B508-09FC766109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D7D-B614-4098-868E-7957E8A53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9DA6-7A55-4CB0-91A8-655B5E648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2FA0-28F2-412A-B7AD-9186420FE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417BB-E007-416C-9A83-AC317AB00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99D-8099-4756-AB96-7811DE275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1FF87-8387-4EDC-954C-62758914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BA20-E52B-4392-8BE4-C0B47FB2F1C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40464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f2f2f2"/>
                </a:solidFill>
                <a:latin typeface="Calibri"/>
              </a:rPr>
              <a:t>Новеньков Руслан </a:t>
            </a:r>
            <a:br>
              <a:rPr sz="2900"/>
            </a:br>
            <a:r>
              <a:rPr b="1" i="1" lang="ru-RU" sz="2900" spc="-1" strike="noStrike">
                <a:solidFill>
                  <a:srgbClr val="f2f2f2"/>
                </a:solidFill>
                <a:latin typeface="Calibri"/>
              </a:rPr>
              <a:t>МБОУ СОШ №8</a:t>
            </a:r>
            <a:br>
              <a:rPr sz="2900"/>
            </a:br>
            <a:r>
              <a:rPr b="1" i="1" lang="ru-RU" sz="2900" spc="-1" strike="noStrike">
                <a:solidFill>
                  <a:srgbClr val="f2f2f2"/>
                </a:solidFill>
                <a:latin typeface="Calibri"/>
              </a:rPr>
              <a:t>9 «А»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58560" y="2781000"/>
            <a:ext cx="6816600" cy="28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58ed5"/>
                </a:solidFill>
                <a:uFillTx/>
                <a:latin typeface="Calibri"/>
                <a:ea typeface="Angsana New"/>
              </a:rPr>
              <a:t>Проек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58ed5"/>
                </a:solidFill>
                <a:uFillTx/>
                <a:latin typeface="Calibri"/>
                <a:ea typeface="Angsana New"/>
              </a:rPr>
              <a:t>Зависимость отбора свойств объекта от выбора модел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 u="sng">
                <a:solidFill>
                  <a:srgbClr val="558ed5"/>
                </a:solidFill>
                <a:uFillTx/>
                <a:latin typeface="Calibri"/>
                <a:ea typeface="Angsana New"/>
              </a:rPr>
              <a:t>На примере: «Моделирование ПК (персонального компьютера)»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655308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" dur="5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графическая: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архитектура П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Содержимое 3" descr="схема для проекта.jpg"/>
          <p:cNvPicPr/>
          <p:nvPr/>
        </p:nvPicPr>
        <p:blipFill>
          <a:blip r:embed="rId2"/>
          <a:stretch/>
        </p:blipFill>
        <p:spPr>
          <a:xfrm>
            <a:off x="468360" y="1916280"/>
            <a:ext cx="8229600" cy="4192560"/>
          </a:xfrm>
          <a:prstGeom prst="rect">
            <a:avLst/>
          </a:prstGeom>
          <a:ln w="0">
            <a:noFill/>
          </a:ln>
        </p:spPr>
      </p:pic>
    </p:spTree>
  </p:cSld>
  <p:transition advTm="15000">
    <p:newsflash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оздание компьютерной модели (схем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205000"/>
            <a:ext cx="8229600" cy="39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Графическая компьютерная модель создана в программе </a:t>
            </a: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: Microsoft Office Word </a:t>
            </a: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с применением графического редактор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Были использованы: автофигуры, стрелки, линии, 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fill="hold">
                      <p:stCondLst>
                        <p:cond delay="0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500"/>
                            </p:stCondLst>
                            <p:childTnLst>
                              <p:par>
                                <p:cTn id="26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500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3450"/>
                            </p:stCondLst>
                            <p:childTnLst>
                              <p:par>
                                <p:cTn id="271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табличная: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характеристики ПК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642960" y="1600200"/>
          <a:ext cx="8043840" cy="5137200"/>
        </p:xfrm>
        <a:graphic>
          <a:graphicData uri="http://schemas.openxmlformats.org/drawingml/2006/table">
            <a:tbl>
              <a:tblPr/>
              <a:tblGrid>
                <a:gridCol w="4021200"/>
                <a:gridCol w="4022640"/>
              </a:tblGrid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характеристи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железо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атеринская плата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Gigabyte P31-DS3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Микропроцессор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tel P31/P3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роцессор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Intel Core 2 Quad Q6600 @ 2400 МГ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Физическая память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2048 Мб (2 </a:t>
                      </a: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x 1024 DDR2-SDRAM 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идеоадаптер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NVIDIA GeForce 9600 G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Жёсткий диск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AMSUNG (500 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Гб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VD-Rom Driv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SNKHODM A3K9MNCDUR SCSI CdRom De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VD-Rom Drive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ptiarc DVD RW AD-7200A ATA Devi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156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етевая карта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 </a:t>
                      </a:r>
                      <a:r>
                        <a:rPr b="0" lang="fr-FR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RTL8168/8111 PCIe Gigabit Ethernet Adap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софт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9680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O</a:t>
                      </a: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перационная система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ndows 7 Ultimate Профессиональный 6.01.76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319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DirectX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Версия 11.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30120"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Windows Performance Index 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360" rIns="9360" tIns="9360" bIns="0" anchor="b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00"/>
                          </a:solidFill>
                          <a:latin typeface="Calibri"/>
                        </a:rPr>
                        <a:t>5.5 on 7.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b" marL="9360" marR="93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p:transition advTm="10000">
    <p:newsflash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500"/>
                            </p:stCondLst>
                            <p:childTnLst>
                              <p:par>
                                <p:cTn id="2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оздание компьютерной модели (таблица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Графическая компьютерная модель создана в программе: </a:t>
            </a: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Microsoft Office Exc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Был использован инструмент: форматирование текс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4800"/>
                            </p:stCondLst>
                            <p:childTnLst>
                              <p:par>
                                <p:cTn id="310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Вывод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Для создания компьютерной модели объекта выбираются отдельные свойства и связи объект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Выбор групп свойств объекта зависит от цели моделирования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66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Так же выбор зависит от вида модел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4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500"/>
                            </p:stCondLst>
                            <p:childTnLst>
                              <p:par>
                                <p:cTn id="32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3500"/>
                            </p:stCondLst>
                            <p:childTnLst>
                              <p:par>
                                <p:cTn id="33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3000" fill="hold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6500"/>
                            </p:stCondLst>
                            <p:childTnLst>
                              <p:par>
                                <p:cTn id="33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3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3000" fill="hold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Цель проек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Исследование выбора свойств ПК при создании различных компьютерных моделей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Проблема: При создании компьютерной модели объекта используются все  свойства и связи объекта или разные группы, от чего это зависит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30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" dur="30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000"/>
                            </p:stCondLst>
                            <p:childTnLst>
                              <p:par>
                                <p:cTn id="4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1000"/>
                                        <p:tgtEl>
                                          <p:spTgt spid="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4000"/>
                            </p:stCondLst>
                            <p:childTnLst>
                              <p:par>
                                <p:cTn id="4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" dur="1000"/>
                                        <p:tgtEl>
                                          <p:spTgt spid="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ff0000"/>
                </a:solidFill>
                <a:uFillTx/>
                <a:latin typeface="Calibri"/>
              </a:rPr>
              <a:t>Планируемые модел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48a54"/>
                </a:solidFill>
                <a:latin typeface="Calibri"/>
              </a:rPr>
              <a:t>1) Объёмная. Цель: создать уменьшенную модель ПК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48a54"/>
                </a:solidFill>
                <a:latin typeface="Calibri"/>
              </a:rPr>
              <a:t>2) Графическая. Цель: нарисовать внешний вид ПК (рисунок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48a54"/>
                </a:solidFill>
                <a:latin typeface="Calibri"/>
              </a:rPr>
              <a:t>3) Графическая. Цель: представить комплектацию ПК в виде составляющих (рисунок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48a54"/>
                </a:solidFill>
                <a:latin typeface="Calibri"/>
              </a:rPr>
              <a:t>4) Графическая. Цель: нарисовать архитектуру ПК (схема)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948a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948a54"/>
                </a:solidFill>
                <a:latin typeface="Calibri"/>
              </a:rPr>
              <a:t>5) Табличная. Цель: представить основные элементы ПК и их характеристики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5000">
    <p:newsflash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объемная: 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войства объ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Системный блок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                           </a:t>
            </a:r>
            <a:r>
              <a:rPr b="1" lang="en-US" sz="2200" spc="-1" strike="noStrike">
                <a:solidFill>
                  <a:srgbClr val="82a7d0"/>
                </a:solidFill>
                <a:latin typeface="Calibri"/>
              </a:rPr>
              <a:t>  </a:t>
            </a: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Клавиатура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Высота – 42,5 см                              Длина – 46,5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Длина – 46 см                                  Ширина наибольшая – 16 с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Ширина – 19,5 см.                          наименьшая – 14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                                                             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Высота – 1,5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Монитор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Высота – 39 см                                 </a:t>
            </a: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Мышь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Длина – 52 см                                  Длина – 12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Ширина наибольшая – 6 см,       Ширина – 5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наименьшая – 2,5 см                     Высота наибольшая – 4 с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Диагональ – 55 см (21 дюйм).     наименьшая – 1 с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500"/>
                            </p:stCondLst>
                            <p:childTnLst>
                              <p:par>
                                <p:cTn id="1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графическая: внешний вид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войства объек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Системный блок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                             </a:t>
            </a: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Клавиатура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Высота – 42,5 см                              Длина – 46,5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Длина – 46 см                                  Ширина наибольшая – 16 с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Ширина – 19,5 см.                          наименьшая – 14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2d3e8"/>
                </a:solidFill>
                <a:latin typeface="Calibri"/>
              </a:rPr>
              <a:t>Цвет: чёрный, серебристый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.       Высота – 1,5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                                                             </a:t>
            </a:r>
            <a:r>
              <a:rPr b="1" lang="en-US" sz="2200" spc="-1" strike="noStrike">
                <a:solidFill>
                  <a:srgbClr val="c2d3e8"/>
                </a:solidFill>
                <a:latin typeface="Calibri"/>
              </a:rPr>
              <a:t>Цвет: чёрная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Монитор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Высота – 39 см                                 </a:t>
            </a:r>
            <a:r>
              <a:rPr b="1" lang="en-US" sz="2200" spc="-1" strike="noStrike" u="sng">
                <a:solidFill>
                  <a:srgbClr val="82a7d0"/>
                </a:solidFill>
                <a:uFillTx/>
                <a:latin typeface="Calibri"/>
              </a:rPr>
              <a:t>Мышь</a:t>
            </a:r>
            <a:r>
              <a:rPr b="1" lang="en-US" sz="2200" spc="-1" strike="noStrike" u="sng">
                <a:solidFill>
                  <a:srgbClr val="376092"/>
                </a:solidFill>
                <a:uFillTx/>
                <a:latin typeface="Calibri"/>
              </a:rPr>
              <a:t>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Длина – 52 см                                  Длина – 12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Ширина наибольшая – 6 см,       Ширина – 5 см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наименьшая – 2,5 см                     Высота наибольшая – 4 см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Диагональ – 55 см (21 дюйм).     наименьшая – 1 см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2d3e8"/>
                </a:solidFill>
                <a:latin typeface="Calibri"/>
              </a:rPr>
              <a:t>Цвет: чёрный, серебристый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.        </a:t>
            </a:r>
            <a:r>
              <a:rPr b="1" lang="en-US" sz="2200" spc="-1" strike="noStrike">
                <a:solidFill>
                  <a:srgbClr val="c2d3e8"/>
                </a:solidFill>
                <a:latin typeface="Calibri"/>
              </a:rPr>
              <a:t>Цвет: светлый</a:t>
            </a:r>
            <a:r>
              <a:rPr b="1" lang="en-US" sz="2200" spc="-1" strike="noStrike">
                <a:solidFill>
                  <a:srgbClr val="376092"/>
                </a:solidFill>
                <a:latin typeface="Calibri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7000">
    <p:newsflash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графическая: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внешний вид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-360" y="1483920"/>
            <a:ext cx="5040360" cy="42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В минимальный комплект ПК входи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Системный блок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онитор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Клавиатура</a:t>
            </a: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Мышь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Рисунок 3" descr="aaaa_01.png"/>
          <p:cNvPicPr/>
          <p:nvPr/>
        </p:nvPicPr>
        <p:blipFill>
          <a:blip r:embed="rId2"/>
          <a:stretch/>
        </p:blipFill>
        <p:spPr>
          <a:xfrm>
            <a:off x="3780000" y="2997360"/>
            <a:ext cx="1368360" cy="238428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4" descr="aaaa_02.png"/>
          <p:cNvPicPr/>
          <p:nvPr/>
        </p:nvPicPr>
        <p:blipFill>
          <a:blip r:embed="rId3"/>
          <a:stretch/>
        </p:blipFill>
        <p:spPr>
          <a:xfrm>
            <a:off x="5148360" y="2997360"/>
            <a:ext cx="3995640" cy="2376360"/>
          </a:xfrm>
          <a:prstGeom prst="rect">
            <a:avLst/>
          </a:prstGeom>
          <a:ln w="0">
            <a:noFill/>
          </a:ln>
        </p:spPr>
      </p:pic>
      <p:pic>
        <p:nvPicPr>
          <p:cNvPr id="56" name="Рисунок 6" descr="aaaa_03.png"/>
          <p:cNvPicPr/>
          <p:nvPr/>
        </p:nvPicPr>
        <p:blipFill>
          <a:blip r:embed="rId4"/>
          <a:stretch/>
        </p:blipFill>
        <p:spPr>
          <a:xfrm>
            <a:off x="3780000" y="5373720"/>
            <a:ext cx="4179600" cy="131292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7" descr="aaaa_04.jpg"/>
          <p:cNvPicPr/>
          <p:nvPr/>
        </p:nvPicPr>
        <p:blipFill>
          <a:blip r:embed="rId5"/>
          <a:stretch/>
        </p:blipFill>
        <p:spPr>
          <a:xfrm>
            <a:off x="7956720" y="5373720"/>
            <a:ext cx="1187280" cy="1295280"/>
          </a:xfrm>
          <a:prstGeom prst="rect">
            <a:avLst/>
          </a:prstGeom>
          <a:ln w="0">
            <a:noFill/>
          </a:ln>
        </p:spPr>
      </p:pic>
    </p:spTree>
  </p:cSld>
  <p:transition advTm="25000">
    <p:newsflash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"/>
                            </p:stCondLst>
                            <p:childTnLst>
                              <p:par>
                                <p:cTn id="12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500"/>
                            </p:stCondLst>
                            <p:childTnLst>
                              <p:par>
                                <p:cTn id="1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2000"/>
                            </p:stCondLst>
                            <p:childTnLst>
                              <p:par>
                                <p:cTn id="1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2500"/>
                            </p:stCondLst>
                            <p:childTnLst>
                              <p:par>
                                <p:cTn id="1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3000"/>
                            </p:stCondLst>
                            <p:childTnLst>
                              <p:par>
                                <p:cTn id="1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20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0"/>
                            </p:stCondLst>
                            <p:childTnLst>
                              <p:par>
                                <p:cTn id="15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5" dur="20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67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6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7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7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7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6" dur="20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20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0504d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2000"/>
                            </p:stCondLst>
                            <p:childTnLst>
                              <p:par>
                                <p:cTn id="189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оздание компьютерной модели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(рисуно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060640"/>
            <a:ext cx="8229600" cy="44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Графическая компьютерная модель создана в программе </a:t>
            </a: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Adobe Photoshop CS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Использованы инструменты: кисти, заливка, фигуры (прямоугольник, овал, кривая), текст, вставка рисунка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Применялись функции: дефрагментация, вставка, копирование, групп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00"/>
                            </p:stCondLst>
                            <p:childTnLst>
                              <p:par>
                                <p:cTn id="205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5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2550"/>
                            </p:stCondLst>
                            <p:childTnLst>
                              <p:par>
                                <p:cTn id="212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500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5325"/>
                            </p:stCondLst>
                            <p:childTnLst>
                              <p:par>
                                <p:cTn id="21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4" dur="5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3964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Модель графическая: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комплектация ПК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Содержимое 3" descr="комплектация.jpg"/>
          <p:cNvPicPr/>
          <p:nvPr/>
        </p:nvPicPr>
        <p:blipFill>
          <a:blip r:embed="rId2"/>
          <a:stretch/>
        </p:blipFill>
        <p:spPr>
          <a:xfrm>
            <a:off x="1332000" y="1484280"/>
            <a:ext cx="6786360" cy="5135760"/>
          </a:xfrm>
          <a:prstGeom prst="rect">
            <a:avLst/>
          </a:prstGeom>
          <a:ln w="0">
            <a:noFill/>
          </a:ln>
        </p:spPr>
      </p:pic>
    </p:spTree>
  </p:cSld>
  <p:transition advTm="10000">
    <p:newsflash/>
  </p:transition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Создание компьютерной модели</a:t>
            </a:r>
            <a:br>
              <a:rPr sz="4000"/>
            </a:br>
            <a:r>
              <a:rPr b="1" i="1" lang="en-US" sz="4000" spc="-1" strike="noStrike" u="sng">
                <a:solidFill>
                  <a:srgbClr val="ff0000"/>
                </a:solidFill>
                <a:uFillTx/>
                <a:latin typeface="Calibri"/>
              </a:rPr>
              <a:t>(рисунок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227628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Графическая компьютерная модель создана в программе </a:t>
            </a:r>
            <a:r>
              <a:rPr b="0" lang="en-US" sz="3200" spc="-1" strike="noStrike">
                <a:solidFill>
                  <a:srgbClr val="66ccff"/>
                </a:solidFill>
                <a:latin typeface="Calibri"/>
              </a:rPr>
              <a:t>Adobe Photoshop CS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Использованы инструменты: кисти, фигуры (прямоугольник, кривая),текс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66ccff"/>
                </a:solidFill>
                <a:latin typeface="Calibri"/>
              </a:rPr>
              <a:t>Применялись функции: вставка, копирование, группиров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advTm="10000">
    <p:newsflash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4-13T22:18:04Z</dcterms:created>
  <dc:creator>Руслан</dc:creator>
  <dc:description/>
  <dc:language>en-US</dc:language>
  <cp:lastModifiedBy>Школьник</cp:lastModifiedBy>
  <dcterms:modified xsi:type="dcterms:W3CDTF">2012-04-27T13:14:53Z</dcterms:modified>
  <cp:revision>29</cp:revision>
  <dc:subject/>
  <dc:title>Новеньков Руслан  МБОУ СОШ №8 9 «А»</dc:title>
</cp:coreProperties>
</file>